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783-D657-48D4-A106-57DFE1A70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D32A-94D4-43A3-8144-BEA8AFFBA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E0D4-5DBE-4371-B2EE-DF4074BF4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479E-5885-46FC-AD35-09FCDCC6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034A-9073-4530-9797-5F6D665D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BF7-1B08-4141-804B-4F16FE86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745-7D67-4A26-9FD4-C33AE26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D553-B0CD-46C3-895A-8B119497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0EE4-9E8C-4255-AD9C-7E0DAD0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F629-8C8B-4A9A-A845-94958411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5619-97BF-4189-BBC8-1E6DCB0C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161-6449-4B56-B646-25355957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A87-5802-4E2C-BEB6-5BA77E2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E09-574C-4BE7-9467-EA5B8AB5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EE2-A79E-4C16-A296-2E173C5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E5C-E8AE-4046-AACA-E57844D86F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3360" y="1989000"/>
            <a:ext cx="6453360" cy="1440000"/>
          </a:xfrm>
          <a:prstGeom prst="rect">
            <a:avLst/>
          </a:prstGeom>
          <a:solidFill>
            <a:srgbClr val="c6d9f1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Gastric carcino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357336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alibri"/>
            </a:endParaRPr>
          </a:p>
        </p:txBody>
      </p:sp>
      <p:pic>
        <p:nvPicPr>
          <p:cNvPr id="50" name="Picture 4" descr="D:\mcst logo.jpg"/>
          <p:cNvPicPr/>
          <p:nvPr/>
        </p:nvPicPr>
        <p:blipFill>
          <a:blip r:embed="rId1"/>
          <a:stretch/>
        </p:blipFill>
        <p:spPr>
          <a:xfrm>
            <a:off x="6300720" y="18900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lypoid (fungating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F478-5D60-4E31-8405-00E3A280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12680" y="1125360"/>
            <a:ext cx="7417080" cy="4518360"/>
          </a:xfrm>
          <a:prstGeom prst="rect">
            <a:avLst/>
          </a:prstGeom>
          <a:ln w="0">
            <a:noFill/>
          </a:ln>
        </p:spPr>
      </p:pic>
      <p:sp>
        <p:nvSpPr>
          <p:cNvPr id="8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nnitus plast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07E-75EA-438D-8CCE-3C38FF710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508880" cy="4795920"/>
          </a:xfrm>
          <a:prstGeom prst="rect">
            <a:avLst/>
          </a:prstGeom>
          <a:ln w="0">
            <a:noFill/>
          </a:ln>
        </p:spPr>
      </p:pic>
      <p:sp>
        <p:nvSpPr>
          <p:cNvPr id="88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lcerating (malignant ulcer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DCC1-4523-4FB1-8280-0B1336154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553440" cy="455616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* Histologic subtype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0440" y="1104840"/>
            <a:ext cx="876312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alibri"/>
              </a:rPr>
              <a:t>1. Intestinal typ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Composed of neoplastic intestinal glands resembling those of colonic adenocarcinoma which permeate the gastric wal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7030a0"/>
                </a:solidFill>
                <a:uFillTx/>
                <a:latin typeface="Calibri"/>
              </a:rPr>
              <a:t>2. Diffuse type (Signet ring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- Composed of malignant mucous cells, which generally do not form glands, but rather permeate the gastric wall as individual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5111640"/>
          </a:xfrm>
          <a:prstGeom prst="rect">
            <a:avLst/>
          </a:prstGeom>
          <a:ln w="0">
            <a:noFill/>
          </a:ln>
        </p:spPr>
      </p:pic>
      <p:sp>
        <p:nvSpPr>
          <p:cNvPr id="9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4966-144F-430E-97BD-B1DC1A8E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467280" y="33336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 Gastric carcinoma; Intestinal typ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4EBE-F736-49D7-9066-4BC89BF5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87360" y="1341360"/>
            <a:ext cx="8217000" cy="49672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360" y="404280"/>
            <a:ext cx="70660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Gastric carcinoma; Intestinal typ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4544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Gastric carcinoma: diffuse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686D-7A02-47A0-B2C0-B8B8BA2AD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Users\jabdelmenam\Desktop\signet.jpg"/>
          <p:cNvPicPr/>
          <p:nvPr/>
        </p:nvPicPr>
        <p:blipFill>
          <a:blip r:embed="rId1"/>
          <a:stretch/>
        </p:blipFill>
        <p:spPr>
          <a:xfrm>
            <a:off x="324000" y="981000"/>
            <a:ext cx="8496000" cy="5472360"/>
          </a:xfrm>
          <a:prstGeom prst="rect">
            <a:avLst/>
          </a:prstGeom>
          <a:ln w="0">
            <a:noFill/>
          </a:ln>
        </p:spPr>
      </p:pic>
      <p:sp>
        <p:nvSpPr>
          <p:cNvPr id="110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61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360" y="1267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IT blee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stric ob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Gastric perforation specially in the ulcerative typ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rea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Di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Lymphatic: especially to the left supraclavicular lymph node (Virchow’s sig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Blo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Transcoelomic (Krukenberg’s tumo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 of gastric carcinoma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1628640"/>
            <a:ext cx="8280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carcinoma is an insidious disease that is generally asymptomatic until late in its cours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ymptoms include weight loss, abdominal pain, anorexia, vomiting, altered bowel habits, and less frequently dysphagia, anemic symptoms, and hemorrha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these symptoms are essentially non-specific, early detection of gastric cancer is difficul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iagnosis of gastric adenocarcinoma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1. Clinical featur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2. Endoscop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aluating both  gross and microscopic appearance  of the tumor by taking biopsy for definitive diagnos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4"/>
          <p:cNvSpPr/>
          <p:nvPr/>
        </p:nvSpPr>
        <p:spPr>
          <a:xfrm flipV="1">
            <a:off x="0" y="1091880"/>
            <a:ext cx="9144000" cy="12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3640" y="404640"/>
            <a:ext cx="83739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Epidemiolog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cinoma is the most common malignant tumor of stomach (90% to 95%). Next in order of frequency are lymphomas (4%), carcinoids (3%), and mesenchymal tumors (2%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tric carcinoma is the second most common tumor in the world. Its incidence, however, varies widely, being particularly high in countries such as Jap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e-to-female ratio of about 2: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408-F481-48E6-BA96-32B281063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ashawky\Desktop\14690_137571663063771_1571380258_n.jpg"/>
          <p:cNvPicPr/>
          <p:nvPr/>
        </p:nvPicPr>
        <p:blipFill>
          <a:blip r:embed="rId1"/>
          <a:stretch/>
        </p:blipFill>
        <p:spPr>
          <a:xfrm>
            <a:off x="811080" y="669960"/>
            <a:ext cx="7382160" cy="924876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7389-A113-4C56-B6DC-1CF01699C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ooter Placeholder 5"/>
          <p:cNvSpPr/>
          <p:nvPr/>
        </p:nvSpPr>
        <p:spPr>
          <a:xfrm>
            <a:off x="5076720" y="522936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Rage Italic"/>
              </a:rPr>
              <a:t>Thanks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2"/>
          <p:cNvSpPr/>
          <p:nvPr/>
        </p:nvSpPr>
        <p:spPr>
          <a:xfrm>
            <a:off x="3071880" y="3137040"/>
            <a:ext cx="2720880" cy="13716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105000" y="3321000"/>
            <a:ext cx="265428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astric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anc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24000" y="5300640"/>
            <a:ext cx="2654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11280" y="2060640"/>
            <a:ext cx="20876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5940360" y="2060640"/>
            <a:ext cx="265428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Genetic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328680" y="419040"/>
            <a:ext cx="84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600" spc="-1" strike="noStrike" u="sng">
                <a:solidFill>
                  <a:srgbClr val="c00000"/>
                </a:solidFill>
                <a:uFillTx/>
                <a:latin typeface="Calibri"/>
                <a:ea typeface="MS PGothic"/>
              </a:rPr>
              <a:t>* Pathogenesis of Gastric Can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6156360" y="5300640"/>
            <a:ext cx="2654280" cy="825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ecancerou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27"/>
          <p:cNvSpPr/>
          <p:nvPr/>
        </p:nvSpPr>
        <p:spPr>
          <a:xfrm>
            <a:off x="2700360" y="2565360"/>
            <a:ext cx="719280" cy="71928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28"/>
          <p:cNvSpPr/>
          <p:nvPr/>
        </p:nvSpPr>
        <p:spPr>
          <a:xfrm flipV="1">
            <a:off x="2987640" y="4508640"/>
            <a:ext cx="576360" cy="79200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29"/>
          <p:cNvSpPr/>
          <p:nvPr/>
        </p:nvSpPr>
        <p:spPr>
          <a:xfrm flipH="1" flipV="1">
            <a:off x="5363640" y="4508640"/>
            <a:ext cx="792360" cy="79200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0"/>
          <p:cNvSpPr/>
          <p:nvPr/>
        </p:nvSpPr>
        <p:spPr>
          <a:xfrm flipH="1">
            <a:off x="5363640" y="2565360"/>
            <a:ext cx="576360" cy="647640"/>
          </a:xfrm>
          <a:prstGeom prst="line">
            <a:avLst/>
          </a:prstGeom>
          <a:ln w="57240">
            <a:solidFill>
              <a:srgbClr val="1f49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532-2E4D-4238-927B-99C6A95DD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09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1. Helicobacter pylori Infection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3640" y="1699920"/>
            <a:ext cx="8569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nic infection with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enerally increases the risk for developing gastric carcinoma by five- to six-fol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cterial infection causes chronic gastritis, followed by atrophy, intestinal metaplasia, dysplasia, and carcin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2. Diet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Nitrites derived from nitrates (preserved foo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Smoked and salted foods, pickled vegetables, chili pepp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Lack of fresh fruit and vegetabl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2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c00000"/>
                </a:solidFill>
                <a:uFillTx/>
                <a:latin typeface="Calibri"/>
              </a:rPr>
              <a:t>3. Genetic factors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ightly increased risk with blood group 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y history of gastric canc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0629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 u="sng">
                <a:solidFill>
                  <a:srgbClr val="c00000"/>
                </a:solidFill>
                <a:uFillTx/>
                <a:latin typeface="Calibri"/>
              </a:rPr>
              <a:t>4. Precancerous lesions: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8600" y="1413000"/>
            <a:ext cx="8763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1. Gastric dysplas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bout 10% of these cases progress to gastric carcinoma specially high-grade dyspl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2. Atrophic gastritis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associated with intestinal metaplas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3. Chronic gastric peptic ulc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030a0"/>
                </a:solidFill>
                <a:uFillTx/>
                <a:latin typeface="Calibri"/>
              </a:rPr>
              <a:t>4. Gastric adeno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orphology of gastric carcinoma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39528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ocation of gastric carcinomas within the stomach is as follow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Pylorus and antrum, 50% to 6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The remainder in the body and fundus: 25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lesser curvature is involved in about 40% and the greater curvature in 12%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us, a favored location is the lesser curvature of the antropyloric reg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* Gross morphology of gastric  carcinoma: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267920"/>
            <a:ext cx="8207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. Polypoid (fungating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a fungating irregular hard mass projecting into the gastric lu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. Infiltrati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use (linnitus plast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. Ulcerativ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ing malignant ul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2D6F-30CB-4BA1-9A29-7876920C1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2:02:07Z</dcterms:created>
  <dc:creator>Ran Zhi Hua</dc:creator>
  <dc:description/>
  <dc:language>en-US</dc:language>
  <cp:lastModifiedBy>Jihan Abdelmenam</cp:lastModifiedBy>
  <dcterms:modified xsi:type="dcterms:W3CDTF">2016-01-20T09:58:46Z</dcterms:modified>
  <cp:revision>446</cp:revision>
  <dc:subject/>
  <dc:title>Gastric cancer</dc:title>
</cp:coreProperties>
</file>